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F86F-B227-47E6-8E85-C830CCD3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C45B-32E1-4DFD-960C-A4DA7B8E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02D-5251-4CAF-85ED-CF4EDE89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37BD-3825-4FBC-ABDA-CDB4E846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7324-6019-4830-AC37-2F1B8E8D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6564-02EF-40D5-92AA-AFF491CC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ABD2-4476-4A31-8807-837AFC92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0C72-BA8D-4A3D-95C8-65FA4BDD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E792-BA79-42F7-80B4-EE2145B4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4DC0-FDB3-4095-B28D-D30A65E5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6E05-9A24-400F-8B87-E45C7B0C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1321-77C4-45E6-8FE5-3DEEEE89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6D78-5198-45CD-B5F4-C1354F94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7B3F-1977-4DB4-85C7-544F4268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2C72-D692-46EC-AA39-ABD49060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CA12-9248-4B41-AD4A-296F17AB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FC0F-64C4-407F-9549-01D91C45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D1E3-B30E-40CC-8430-80CB4878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B49C-E3C0-4B42-B6C4-3B6593E9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7C13-9E2E-4BFC-8A3A-DC224EF0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2A4A-71AB-4A5B-BA95-37742D0B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5D61-E970-4BE5-943B-B85893B5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6DB1-812E-46F1-A536-C5E007B9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B9D6-926D-45B7-90D8-733E4870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77BA-AFDE-4A24-BF25-3AF8B93627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647A-A8EA-4A6B-8D49-BA9A97D1EF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ЕГРУТОВАЊЕ КАНДИДАТ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13" descr="memo grb copy"/>
          <p:cNvPicPr/>
          <p:nvPr/>
        </p:nvPicPr>
        <p:blipFill>
          <a:blip r:embed="rId4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Екстерно регрутовање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грутовање кандидата на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тржишту ра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опциј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Целокупно тржиште 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егмент тржишта рад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фокус је на неформалним методима регруто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тоди екстерног регрутовања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глаш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жан је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валитетан одзи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јављивање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слепих” огл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нтерн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пецијализовани часо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Дневне нов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адио и телеви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тоди екстерног регрутовања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Агенције за запошљ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Државне агенције за запошљ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ватне агенције за регруто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пецијализоване приватне агенције за регрутовање менаџера и специјал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тоди екстерног регрутовања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Регрутовање преко школа и факулт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форме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ривреме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ангажовање током распуста ил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ерманент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акон завршених студиј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елативно јефти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оуздан начи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доласка до квалитетних поједина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блем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недостатак искуст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геп успеха студирања и перформанс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Остали методи екстерног регрутовања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Афирмативно регруто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Неформални методи екстерног регрутовања кандид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епоруке постојећих запослен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Запошљавање бивших запосле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амоиницијативно пријављени кандид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Евалуација квалитета регрутовањ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Евалуација рада специјалиста за регруто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Евалуација извора регруто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Укупни трошков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Укупан број пријављених кандид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Трошкови по запосленом кандида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ацио селе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ужина останка кандидата у организац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ерформансе примљеног кандид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Разлике у квалитету из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егрутовање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роцес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привлаче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валификованих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кандида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броју који омогућава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избо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јбољих појединац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 попуњавање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упражњених радних мес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грутовање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утич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а: 1) број људи који ће се пријавити, 2) тип људи који ће се пријавити, 3) вероватноћу да ће пријављени кандидат прихватити поса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врха регрутовањ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Дефинисање потреба за регрутовање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андидата у складу са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ланом људских ресур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ривлаче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што већег броја квалификованих кандидата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уз прихватљиве трошков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ћање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топе успешног избо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андид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Оце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различитих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звора регрутова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Филозофије регрутовањ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Два приступ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Традиционални присту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ценат је на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максимирању бро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ијављених кандидата за упражњено радно место и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низак рацио селек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авремени присту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ценат је на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квалите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ијављених кандидата за упражњено радно место и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реалним описима пос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Аспекти регрутовањ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олитика регруто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Њоме се одређују приступи и стандарди који ће се примењивати у привлачењу кандид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ацио селекције (рацио принос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ат за предвиђање броја кандидата који је потребно да се пријави да би се ангажовао квалитетан кандидат (кандидати) за упражњено радно место (радна мес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нтерно vs. екстерно регруто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нтерно регрутовање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Унапређење запослених на више хијерархијске пози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езано са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плановима сукцес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емештај запослених на друга радна м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мештај је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перманентн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арак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отирање послова између запосле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тирање је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привремен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арак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тоди интерног регрутовања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озив постојећим запосленима да се пријаве на упражњено радно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а своје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пред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недостат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оришћење инвентара вештина (талена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жан је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квалитет подата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адржаних у ба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едности интерног регрутовања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ознате су карактеристике и перформанс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послених што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мањује могућност грешк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 избо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држ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мотивациону компонент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Уштеда новца и време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 регрутовање, селекцију и обуку запосле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Јачање перцеп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игурности запосле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Недостаци интерног регрутовања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Унапређива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послених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без потребног искуст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облем попуњава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пражњеног радног м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ромена организације пос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оја може довест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онфлика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Затвореност организа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што негативно утиче на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новатив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флексибилно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2-23T06:34:43Z</dcterms:modified>
  <cp:revision>143</cp:revision>
  <dc:subject/>
  <dc:title>Soft and Hard Skills Development: A Current Situation in Serbian Companies</dc:title>
</cp:coreProperties>
</file>